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15"/>
          </p:nvPr>
        </p:nvSpPr>
        <p:spPr>
          <a:xfrm>
            <a:off x="-360" y="8677440"/>
            <a:ext cx="29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9E7E-AB0A-4C47-9477-0D2B36AB873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8EAFD-77C3-4E83-ADC9-327B2B487A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B877-9691-44F8-AADD-82B7E9045629}" type="slidenum">
              <a:rPr b="0" lang="pt-BR" sz="1200" spc="-1" strike="noStrike">
                <a:solidFill>
                  <a:srgbClr val="008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B6A9F-E282-4AB9-99DE-3425597735C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C273D-9F30-4CD8-A49F-225C4972B5D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5B5EC-2836-47E6-8B8D-8C55FC6F17E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9B98B-DB2D-4226-A403-06D8BC0D083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6B0C-CA6E-469C-9754-2D76D23FF9B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A9E62-D115-4B05-BDA8-68F49C3EA9B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A4269-BA2F-4B7D-A720-B3E900FE067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A7B63-2BBB-4307-9EE0-E9712F8D074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902F-62C0-4017-B78D-3085558A5E4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17928-87DE-4B12-95E8-73601E661424}" type="slidenum">
              <a:rPr b="0" lang="pt-BR" sz="1200" spc="-1" strike="noStrike">
                <a:solidFill>
                  <a:srgbClr val="008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4014F-BBA8-4042-84B0-ADADF12602F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DE20D-408C-4CC1-AB44-76F2D2F496F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A039-E4B2-4A74-BB2E-5A51B3034D4C}" type="slidenum">
              <a:rPr b="0" lang="pt-BR" sz="1200" spc="-1" strike="noStrike">
                <a:solidFill>
                  <a:srgbClr val="008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43B91-91FF-4ADE-8894-38F18E1B8A2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0B738-2EF9-4332-B142-429A9FEFB15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76337-258F-47D3-A5A5-AB7CAE418EC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8678880"/>
            <a:ext cx="29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E-Dictor -- M.C. Paixão de Souza, Fábio Kepler e Pablo F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9FFB8-DAB1-437A-B310-718250C33B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B4AD-A8B5-4E68-BD77-206F59978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DE1A-B5D1-4DFB-8D32-82EFBCB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80EE-A13B-4ED1-8561-582645F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A4F6-4E73-4A6A-975A-74983188B4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4B655-E167-48EC-86C4-9790829B9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CF2D1-0148-41EC-9CAC-E7247A79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5CA65-CF2C-467D-9762-E57AB4C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03F14-C473-4B67-8F7F-7F75597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F3A38-0E03-48A7-8570-E57A135B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E94E3-DEFD-49E6-BD42-6D69A4D1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C146-0342-49F8-AACF-F655637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F5A6-1956-4084-BCAD-0D6A1A0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0565D-0CA5-4B67-9B91-FA605F0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394D8-A2A3-489E-8B1D-D4541F6B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928C8-6043-4DC5-AF96-7357267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962A6-AF0A-4D60-A951-71032C6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5326F-9048-43B8-9954-DE862812F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E464-149B-4E22-8C95-3228424FD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7AE8-3C96-4093-95D3-FBD07FE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AE43-9B44-465D-8504-E612A91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8BA-BD07-4C56-AC9E-6B7A498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18F-33A8-4DC1-824B-33ACBBE6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36F5-671C-4D44-86BF-B0651023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083-11A7-4C36-898C-0A5BF0A5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F139-0A4D-4FE0-9198-A8036F7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AA52-8A2F-4D82-B7EE-4029160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E391-D99D-4EA7-BC09-80D63FA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FEDE-7B2B-4DAD-BAD6-5B7DF90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E505-3160-4A07-B573-E52D573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05FF-D719-47A6-89DB-7C2E39940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4F16A-63DE-4A3C-84EC-670BCE5C3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F6075-FF83-4B8C-9238-FB81AC7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B0631-2380-4EE5-A3FB-E7ABF7FA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DF49-616E-4AA8-9D40-ACA1A6D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1BA0-8412-4837-AB72-EC5A6F73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726AE-39C6-4EB5-8965-A86E8665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1D3B8-D91A-48CE-9F28-AF0712DB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70D73-CF6F-460D-8372-70892D74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204EF-B043-43FC-9700-6804022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A89BF-1DB5-4DB7-8C16-72CE1FE0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599CB-0322-449D-99A6-CC4DEEA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7E91D-9296-4E96-96D6-6F50B4FD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B5BAC-6537-47AF-BEC4-C6F702CF3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E8492-5775-4A51-AE6A-BD91890E9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F1D0-30BF-4215-882E-9B8882E0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171D2-B1FF-4B82-9325-E1383B75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74BE1-DE6C-4272-B152-BB0C33B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2510C-732F-451E-82D6-B154D7D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7D86B-11F8-4E81-8A94-CA2CD37D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0FEA6-58A4-4D02-81A3-D8B60E98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FFC6A-8998-442A-BB45-E31D949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FBACD-BA99-40CC-9184-B1D72EA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E2904-315A-42D8-80CF-D2681915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85D9B-1B96-4C84-B01F-F47D3D0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6E992-D210-4253-898E-BCB2668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AB81-BDE5-42C7-A67F-8CCA63BC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D0B50-8E53-48A5-9EB0-462B2EAD2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5783-4ED1-4547-9730-88C06D422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CEF1-C3CA-4B16-B71D-B7E07A91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AA46-1537-4715-890D-E69A986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031C-7CEF-4999-A178-309650E4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C3F9-4A84-462F-BFDC-5AE901B2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F391-87C8-4021-B921-8A9355C1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104E-59A3-47C2-90E3-B63B201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F224-8B6F-45BC-BC2E-4FD2131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A996-5915-435B-9250-22330EE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D33A-2A91-40F2-B231-41DA9D1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5D4B-B8F5-435E-AF6B-553D1FD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904E-BC97-446F-9338-AD52417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B09D-B80A-414D-B8BB-A65ADAD8E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5FF27-F02F-4C96-B2E6-C08604F12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B6580-4105-43D4-AFFE-14E26BBD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50BBD-86DE-4C89-9C69-4B600222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48CEB-E69C-4789-8710-92E8355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784EE-B545-4D27-852E-9CB6F97A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C96D5-F011-46BC-B137-B0DE043A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91294-F5CC-4E55-991C-BE3AE7C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FC54-444F-4A5A-B663-949DA89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7AE4E-FCF4-4CD3-9717-93D4E31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369DE-75DD-4B4C-AD52-B9AC46D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A364C-D08F-442C-A7EB-5DCADC3C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6B144-4720-4803-9E30-1F892F0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796B3-172E-466B-8A9E-C0CEC8591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834B-05E5-4242-BB07-8CE311D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1/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73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8306-9BB3-41F3-81F8-4CEE3CC098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068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8444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BC24F7-4546-4C32-9AF3-865A2FE0FA42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015482-06A9-476B-BE2C-CD44BD3CF84E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768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44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fff39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8444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191F8B-7C0F-45BD-B805-B62E94F3ED87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DE820C-1CEF-42BE-932B-E24EA7FDBA5E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768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359697-FDFB-427F-AB48-69AD281DC37D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768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01/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B93690-7B68-4D5D-9988-23E5DCC16276}" type="slidenum">
              <a:rPr b="1" lang="pt-BR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768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0" y="712800"/>
            <a:ext cx="61722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E-DI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57184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Apresentação da ferram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4560" y="3679920"/>
            <a:ext cx="607536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ablo Fa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ICAMP/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blofaria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envolvimento deste aplicativo foi  parcialm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do por uma Bolsa Técnica TT4-A, concedida ao proje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adrões Rítmicos, Fixação de Parâmetros &amp; Mudança Linguística – II”,</a:t>
            </a:r>
            <a:br>
              <a:rPr sz="1400"/>
            </a:b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PESP 2004/03643-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7CB19-9AC9-4660-A9FC-12B589FEE4F0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ARACTERÍS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71760"/>
            <a:ext cx="74674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Linguagem: 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Portabilida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Window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Linu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Previsão de versão para M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Versão atual: 1.0.008 (be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B9D9B-0323-475E-A106-CA85AFBA0E7F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ARACTERÍSTICAS DO XML GER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571760"/>
            <a:ext cx="74674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strutura concebida para ser o mais neutra possível, em relação aos diversos gêneros textua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strutura representáve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Tex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   Seç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   Parágraf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      Sentenç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         Palavr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            Edições e informações morf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Cabeçalho e rodap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Quebras de linha, coluna e pá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CD3D5-17B5-47C7-B72E-DB9BFC621732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INFORMAÇÕES SOBRE O TEX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571760"/>
            <a:ext cx="74674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etadados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: permite personalizar as informações de catalogação do texto, de acordo com as necessidades de cada proje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omentários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: permite que o usuário registre comentários durante a transcrição ou edição, apontando possíveis dúvidas, etc., para posterior anál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62CC3-423B-4119-884A-5F6B8AA35C5F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3. RESULT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tividades em que ferramenta foi utiliz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Codificação e edi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Revisão da edi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entury Schoolbook"/>
                <a:ea typeface="SimSun"/>
              </a:rPr>
              <a:t>Revisão de etiquetas morfológic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Benefícios para a prática de edição e anot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  <a:ea typeface="SimSun"/>
              </a:rPr>
              <a:t>Redução em pelo menos 50% no tempo total das atividad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  <a:ea typeface="SimSun"/>
              </a:rPr>
              <a:t>Treinamento de pessoal facil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C69FE-5428-4D1A-9B22-661A626D6590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3. RESULTADOS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OUTROS BENEFÍ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Construção de corpo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entury Schoolbook"/>
                <a:ea typeface="SimSun"/>
              </a:rPr>
              <a:t>Personalização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  <a:ea typeface="SimSun"/>
              </a:rPr>
              <a:t>: suporte às características particulares de cada projeto, que poderão definir suas próprias categorias de metadados e de ediç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entury Schoolbook"/>
                <a:ea typeface="SimSun"/>
              </a:rPr>
              <a:t>Homogeneidade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  <a:ea typeface="SimSun"/>
              </a:rPr>
              <a:t>: apesar de terem categorias particulares, os corpora dos diferentes projetos terão a mesma estrutura XML subjacente, facilitando o intercâmbio mútuo de tecnologias de processamento dos tex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39C29-2843-4CF3-A13A-746A94EED512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3. RESULTADOS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OUTROS BENEFÍCIOS (cont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notação morfológ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entury Schoolbook"/>
                <a:ea typeface="SimSun"/>
              </a:rPr>
              <a:t>Eficiência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  <a:ea typeface="SimSun"/>
              </a:rPr>
              <a:t>: com o E-Dictor, é possível etiquetar o texto utilizando a versão moderniz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entury Schoolbook"/>
                <a:ea typeface="SimSun"/>
              </a:rPr>
              <a:t>Fidelidade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  <a:ea typeface="SimSun"/>
              </a:rPr>
              <a:t>: por outro lado, após etiquetado e revisado, o texto etiquetado pode ser exportado com a grafia original, inclusive para ser enviado para analisadores sintáticos automáticos que operem sobre etique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908B3-F671-45F2-A210-6865E7068A69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4. LINKS RELACION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743120"/>
            <a:ext cx="74674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Versões do E-Dictor para download: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entury Schoolbook"/>
              </a:rPr>
              <a:t>http://www.tycho.iel.unicamp.br/~tycho/tmp/</a:t>
            </a:r>
            <a:r>
              <a:rPr b="0" lang="pt-BR" sz="2400" spc="-1" strike="noStrike">
                <a:solidFill>
                  <a:srgbClr val="d2611c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tiquetador morfológio (Fábio Kepler):</a:t>
            </a:r>
            <a:br>
              <a:rPr sz="2400"/>
            </a:br>
            <a:r>
              <a:rPr b="0" lang="pt-BR" sz="2400" spc="-1" strike="noStrike">
                <a:solidFill>
                  <a:srgbClr val="ff3333"/>
                </a:solidFill>
                <a:latin typeface="Century Schoolbook"/>
              </a:rPr>
              <a:t>http://www.ime.usp.br/~kepler/vlmm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ojeto Tycho Brahe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entury Schoolbook"/>
              </a:rPr>
              <a:t>http://www.tycho.iel.unicamp.br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ais sobre anotação eletrônica de corpora de textos (Univ. da Pensilvânia)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entury Schoolbook"/>
              </a:rPr>
              <a:t>http://www.ldc.upenn.edu/annota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Site da ferramenta E-Dictor (desatualizado)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entury Schoolbook"/>
              </a:rPr>
              <a:t>http://purl.org/ed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C7E4F-B657-404C-A149-AEAE1D7C59E8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SUMÁ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Codificação de textos em X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E-Dictor: origens, finalidade e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Links relacion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5483A-0681-4A3F-A17B-1138DB14A79D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1. CODIFICAÇÃO DE CORPORA ELETRÔNICOS EM X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Pró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Acess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Várias possibilidades de manipul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Simples de armaze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Fácil interação com ambientes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Contras (da codificação manual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Treinamento de pess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Alta demanda sobre tarefas de revi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Dificulta o foco nas tarefas linguísticas/fil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5D73-8AA5-411A-B12A-ACE1051A5CDF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1. CODIFICAÇÃO ELETRÔNICA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EXEMPLO DE CODIFIC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1880" y="1600200"/>
            <a:ext cx="7467840" cy="4873680"/>
          </a:xfrm>
          <a:prstGeom prst="rect">
            <a:avLst/>
          </a:prstGeom>
          <a:solidFill>
            <a:srgbClr val="eff1f7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sec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title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_mark re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m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d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ustríssimo Senhor Doutor Francisco Antonio Duarte da Fonceca Montanha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or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or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.mo S.r D.r Fran.co Anto Dte da Fon.ca Montanha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r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_mark&gt;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sec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_mark re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m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d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o Amigo e Senhor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or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or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m.o e S.or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r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_mark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B53C1-8C89-4A81-A23A-1CEEB324F6A3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2. E-DICTOR: ORIG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600200"/>
            <a:ext cx="74674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iciativa de Paixão de Souza &amp; Kepler (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Fluxos de procedimentos (normal e almejado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1680" y="2643120"/>
            <a:ext cx="3429000" cy="38037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4071960" y="2657520"/>
            <a:ext cx="3843360" cy="3771720"/>
            <a:chOff x="4071960" y="2657520"/>
            <a:chExt cx="3843360" cy="3771720"/>
          </a:xfrm>
        </p:grpSpPr>
        <p:pic>
          <p:nvPicPr>
            <p:cNvPr id="380" name="" descr=""/>
            <p:cNvPicPr/>
            <p:nvPr/>
          </p:nvPicPr>
          <p:blipFill>
            <a:blip r:embed="rId2">
              <a:lum contrast="20000"/>
            </a:blip>
            <a:stretch/>
          </p:blipFill>
          <p:spPr>
            <a:xfrm>
              <a:off x="4500720" y="2657520"/>
              <a:ext cx="341460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4071960" y="4286160"/>
              <a:ext cx="357120" cy="214560"/>
            </a:xfrm>
            <a:prstGeom prst="rightArrow">
              <a:avLst>
                <a:gd name="adj1" fmla="val 50000"/>
                <a:gd name="adj2" fmla="val 49933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0ECAA-C79A-42A5-85B7-F2F6DA72D062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FINALIDA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barcar o fluxo de edi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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Transcrição, edição de grafia, análise morfológica, revisão de etique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Manter os prós e enfraquecer os cont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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Interface amigável mediando a relação entre o usuário e o código XML subjac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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Foco nas tarefas linguísticas/fil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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Revisão facilit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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Orientado à padronização da estrutura XML subjac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16ED4-B535-4FAD-B189-9002F7EFF05A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INTERFACE DE EDI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68160" y="1600200"/>
            <a:ext cx="7043760" cy="4871880"/>
            <a:chOff x="668160" y="1600200"/>
            <a:chExt cx="7043760" cy="487188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668160" y="1600200"/>
              <a:ext cx="704376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68160" y="1600200"/>
              <a:ext cx="7043760" cy="48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84099-975A-4E80-9F3E-A60EBCEC061E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4240" y="4332240"/>
            <a:ext cx="3643560" cy="428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NTES (MANUALMENTE)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1880" y="1600200"/>
            <a:ext cx="7467840" cy="4873680"/>
          </a:xfrm>
          <a:prstGeom prst="rect">
            <a:avLst/>
          </a:prstGeom>
          <a:solidFill>
            <a:srgbClr val="eff1f7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sec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title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_mark re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m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d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ustríssimo Senhor Doutor Francisco Antonio Duarte da Fonceca Montanha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or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or_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ll.mo S.r D.r Fran.co Anto Dte da Fon.ca Montanha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r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_mark&gt;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sec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_mark re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m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d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ed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o Amigo e Senhor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or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_001_or_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m.o e S.or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r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d_mark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8894C-B67C-4422-A949-CCC97C3BBF76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104920"/>
            <a:ext cx="7643880" cy="1000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75f6d"/>
                </a:solidFill>
                <a:latin typeface="Century Schoolbook"/>
              </a:rPr>
              <a:t>2. E-DICTOR</a:t>
            </a:r>
            <a:br>
              <a:rPr sz="18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E AGORA (CÓDIGO GERAD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solidFill>
            <a:srgbClr val="eff1f7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p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_3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s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_9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tation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w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_9#0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  &lt;o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llmo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  &lt;e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llustrissimo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&gt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   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 t="mod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lustríssimo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/w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w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_9#1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  &lt;o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nr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&gt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   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hor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&gt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 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w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w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_9#2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  &lt;o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nuel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&gt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 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w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w id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_9#3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  &lt;o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gnacio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o&gt;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   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e t=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d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"&gt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gnácio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&lt;/e&gt;</a:t>
            </a:r>
            <a:br>
              <a:rPr sz="1800"/>
            </a:b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   &lt;/w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   </a:t>
            </a:r>
            <a:r>
              <a:rPr b="1" lang="pt-BR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41E1C-4AA7-46BB-BC18-EAFF8FCCF30E}" type="slidenum">
              <a:rPr b="1" lang="pt-B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18:45Z</dcterms:created>
  <dc:creator>Pablo Faria</dc:creator>
  <dc:description/>
  <dc:language>en-US</dc:language>
  <cp:lastModifiedBy>Pablo Faria</cp:lastModifiedBy>
  <dcterms:modified xsi:type="dcterms:W3CDTF">2011-10-10T15:32:51Z</dcterms:modified>
  <cp:revision>83</cp:revision>
  <dc:subject/>
  <dc:title>E-Dictor</dc:title>
</cp:coreProperties>
</file>